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35ED-FF1D-4F82-8093-BD07681D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28B1-F7EF-4057-9BA1-1916FDDB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F7CF-50B4-409E-A1F7-16022E89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5324-3363-4444-A366-65176EF0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3AB9-B318-4A8A-9FBA-E5F9C7C3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E574-643E-4D93-8CCD-9DA702D1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0F61-60B8-4E1F-B4B6-207B78D0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8F47-5866-45CD-B246-89D94E67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E4E0-7A48-48B1-9AAF-1DB19FE4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AD9D-24F6-48B4-A5E5-A000966A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3701-041F-4BD9-9600-B53F159E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E817-99C8-44D8-B4AC-5A4C5A58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B99E-531D-4789-8247-4DA3C42B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9FE6-4339-4067-84FE-1A290845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681F-AC16-4FF5-9E8C-6671ECAE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440A-61D8-4053-85FE-F80FFD5F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17A5-899F-4AE9-9138-C8E5850E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BE0B5-11BD-4F84-90BF-C14CE918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1A4E7-BD39-42D4-84B8-7D6FB17B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51DDC-D410-4E37-B9A5-B9DD672B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3EAD1-7ADE-432C-8EFA-C979E333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04E0D-584D-4C12-A8E8-E8E27B48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35D7-B81D-4EFC-9ADD-2A63909C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01ACC-6152-4604-A8DE-E966448F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B2E0F-B5B6-404A-8960-3C4E9BC8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B4D80-AB53-4C06-AD3F-C3E6EDB3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422FB-7A54-4776-A413-8B2D0208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C80EB-0F85-4AF9-9B8C-AB0CF3BB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332EB-AC04-4AC0-819A-D6664C80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267B5-D4D3-451B-9418-283A2ADA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17FD-7FFB-4E3F-AC81-E092CAEC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5F8B-5E47-443E-8E96-65FC7725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A2F8-B326-4E5C-AE5A-CD99E9F9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FE5D-7885-46EE-A77E-12C22776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7115-82F0-43BF-8CC0-C29B573F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8777-3BFF-4A07-A8C9-5D42EF8D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1579DA-DEA5-4C00-8E23-B627AD81AF3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6E7DDC-4098-4AE8-B4AC-5B3525BCF39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3A254A-F4BC-4335-8174-CBBF15BED4C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en.wikipedia.org/wiki/Keystone,_South_Dakota" TargetMode="External"/><Relationship Id="rId3" Type="http://schemas.openxmlformats.org/officeDocument/2006/relationships/hyperlink" Target="http://en.wikipedia.org/wiki/South_Dakota" TargetMode="External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54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040" cy="129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amous People Fri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440" cy="129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. Mundorf’s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gust 22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64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Famous 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362320" y="2286000"/>
            <a:ext cx="4190760" cy="2285640"/>
          </a:xfrm>
          <a:prstGeom prst="rect">
            <a:avLst/>
          </a:prstGeom>
          <a:solidFill>
            <a:srgbClr val="ccecff">
              <a:alpha val="52000"/>
            </a:srgbClr>
          </a:solidFill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rge Washing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mas Jeff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unt Rushmo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Image:Mount Rushmore National Memorial.jpg"/>
          <p:cNvPicPr/>
          <p:nvPr/>
        </p:nvPicPr>
        <p:blipFill>
          <a:blip r:embed="rId1"/>
          <a:stretch/>
        </p:blipFill>
        <p:spPr>
          <a:xfrm>
            <a:off x="1219320" y="990720"/>
            <a:ext cx="6781320" cy="50860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1066680" y="6172200"/>
            <a:ext cx="7238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ount Rushmore National Memori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near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Keysto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South Dak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eorg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ashing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581280" y="272880"/>
            <a:ext cx="5333760" cy="62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rthday: February 22, 17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ed: December 14, 17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President of U.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 at Inauguration: 5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ved: 1789-179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f terms: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ident of Constitutional Conven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eutenant General and Commander in Chief of new United States Arm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George Washington"/>
          <p:cNvPicPr/>
          <p:nvPr/>
        </p:nvPicPr>
        <p:blipFill>
          <a:blip r:embed="rId1"/>
          <a:stretch/>
        </p:blipFill>
        <p:spPr>
          <a:xfrm>
            <a:off x="228600" y="1676520"/>
            <a:ext cx="3186360" cy="38095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6"/>
          <p:cNvSpPr/>
          <p:nvPr/>
        </p:nvSpPr>
        <p:spPr>
          <a:xfrm>
            <a:off x="914400" y="6477120"/>
            <a:ext cx="6933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apples4theteacher.com/holidays/presidents-day/george-washington/facts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President George Washington, Lansdowne portrait by Gilbert Stuart"/>
          <p:cNvPicPr/>
          <p:nvPr/>
        </p:nvPicPr>
        <p:blipFill>
          <a:blip r:embed="rId1"/>
          <a:stretch/>
        </p:blipFill>
        <p:spPr>
          <a:xfrm>
            <a:off x="380880" y="380880"/>
            <a:ext cx="3885840" cy="60015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http://kinardstudents.com/slaymaker/shared%20images/the-washington-monument.jpg"/>
          <p:cNvPicPr/>
          <p:nvPr/>
        </p:nvPicPr>
        <p:blipFill>
          <a:blip r:embed="rId2"/>
          <a:stretch/>
        </p:blipFill>
        <p:spPr>
          <a:xfrm>
            <a:off x="4419720" y="1752480"/>
            <a:ext cx="448488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oma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effer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61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rthday: April 13, 174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ed: July 4, 182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ident number: 3r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 at Inauguration: 5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ved: 1801 - 1809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f terms: 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ote the Declaration of Independ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or of Virgi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ister to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retary of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ce-Presi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457200" y="6477120"/>
            <a:ext cx="8229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apples4theteacher.com/holidays/presidents-day/thomas-jefferson/fact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http://easyquestion.net/thinkagain/wp-content/uploads/2007/12/thomas-jefferson-picture.jpg"/>
          <p:cNvPicPr/>
          <p:nvPr/>
        </p:nvPicPr>
        <p:blipFill>
          <a:blip r:embed="rId1"/>
          <a:stretch/>
        </p:blipFill>
        <p:spPr>
          <a:xfrm>
            <a:off x="380880" y="2209680"/>
            <a:ext cx="2612160" cy="25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http://upload.wikimedia.org/wikipedia/commons/2/2d/Jefferson_Memorial_(cropped).jpg"/>
          <p:cNvPicPr/>
          <p:nvPr/>
        </p:nvPicPr>
        <p:blipFill>
          <a:blip r:embed="rId1"/>
          <a:stretch/>
        </p:blipFill>
        <p:spPr>
          <a:xfrm>
            <a:off x="228600" y="1447920"/>
            <a:ext cx="6181200" cy="3866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http://www.visitingdc.com/images/thomas-jefferson-statue.jpg"/>
          <p:cNvPicPr/>
          <p:nvPr/>
        </p:nvPicPr>
        <p:blipFill>
          <a:blip r:embed="rId2"/>
          <a:stretch/>
        </p:blipFill>
        <p:spPr>
          <a:xfrm>
            <a:off x="4876920" y="762120"/>
            <a:ext cx="4047120" cy="48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44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2362320"/>
            <a:ext cx="876276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George Washington a famous pers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itle 4"/>
          <p:cNvSpPr/>
          <p:nvPr/>
        </p:nvSpPr>
        <p:spPr>
          <a:xfrm>
            <a:off x="533520" y="380880"/>
            <a:ext cx="777204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itle 4"/>
          <p:cNvSpPr/>
          <p:nvPr/>
        </p:nvSpPr>
        <p:spPr>
          <a:xfrm>
            <a:off x="228600" y="4038480"/>
            <a:ext cx="876276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Thomas Jefferson a famous pers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  <Words>146</Words>
  <Paragraphs>35</Paragraphs>
  <Company>CCP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8:30:37Z</dcterms:created>
  <dc:creator>CCPS</dc:creator>
  <dc:description/>
  <dc:language>en-US</dc:language>
  <cp:lastModifiedBy>CCPS</cp:lastModifiedBy>
  <dcterms:modified xsi:type="dcterms:W3CDTF">2008-08-25T11:50:09Z</dcterms:modified>
  <cp:revision>13</cp:revision>
  <dc:subject/>
  <dc:title>Famous People Frid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8</vt:r8>
  </property>
</Properties>
</file>